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D23-3386-4F2F-8F39-0997FF83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FCC-1125-4003-96A0-A5134C04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A04-FA5A-48FE-9D0E-CFE5EE3D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161-FA3B-4422-AD55-AEC9C8A5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50A3-C462-4734-A566-9ABA7163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CFBC-2C91-45D0-99D9-728EA7EF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F3A9-D953-4694-81C1-63D0E916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9686-56C2-47B4-869D-45470EBE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2F4C-F374-486A-81D4-88E011BE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10B4-C3DD-4DB4-8061-1B153D29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604D-7F1E-4227-8E82-AD0A9224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FE4-D059-4B62-8BF0-E2D03516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9C4F-C773-4226-9F80-2ADB3764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5AEE-D4B6-4E64-90E6-58823B15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3083-D3B6-4EE5-8491-F307ACAF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E74D-A426-43FE-A9DE-1D6FBE31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570B-3173-4B13-82F8-90DCDEC7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AD77E-382A-4AC7-BC4B-723F39C1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9CA9E-1403-491D-93A6-AA18AC7F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9F7D8-7979-4E82-97D4-EED8F915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B88C4-B844-434A-B5C7-29C1AB19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59CB6-B1BF-455B-95E3-6CD3BBFC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CBA-4D95-4007-9830-2C6A6091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57016-9D6D-488B-8A5B-577230AA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B23CC-AFE6-4776-8080-F572D20F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09BFC-CE35-460B-BEB7-FAB1A541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FE6EB-ED40-4402-B79E-A98C37EE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6132-1343-491A-8CDE-08424D53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A5596-7FB0-4EE7-8DCC-B16A6B87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E1708-89DE-40F4-B60F-DC340513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DC95-713F-4619-A856-4CEA3B5D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98DFB-3009-4AAE-8FF5-07FDCEB1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65420-1564-4C01-B9D4-02A0C56D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3F6-F679-430C-ACC6-95A6A487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E1A90-5E07-48A8-B928-D3C03643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92002-00C9-4C44-B0DB-7363FE57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B1E80-4387-427C-9275-0DCE7213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0C9F3-C562-4079-8CEE-3E8EBB9C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3FF97-E2C7-4B76-89E2-1876A606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D9680-312D-4FF6-ACF6-65B555DE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CA043-33CF-4FBD-8A8C-4DE481D1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DC568-511F-4898-B234-9505603B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5FEE-1E5D-4113-BA97-9A098744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0A4-6ADD-4910-A249-FF500974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D85-3836-48B1-8429-979211A8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9D3-7DED-4287-B2BE-316B1E7A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E91-539B-4959-90EB-6A3D57AA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633-D745-4BFC-A9D4-21D50A37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F796-E53D-4C48-A47D-13BAA43C86F1}" type="slidenum">
              <a:rPr b="0" lang="fr-F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7809-CF3C-4DDE-A9EE-3F241048B969}" type="slidenum">
              <a:rPr b="0" lang="fr-F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6668-87C0-4FA9-9C95-DBA04BED9A0E}" type="slidenum">
              <a:rPr b="0" lang="fr-F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4599-5AFA-4C98-872B-11BEE74958D7}" type="slidenum">
              <a:rPr b="0" lang="fr-F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re 1" descr=""/>
          <p:cNvPicPr/>
          <p:nvPr/>
        </p:nvPicPr>
        <p:blipFill>
          <a:blip r:embed="rId1"/>
          <a:stretch/>
        </p:blipFill>
        <p:spPr>
          <a:xfrm>
            <a:off x="225360" y="2243160"/>
            <a:ext cx="8686800" cy="2438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28840" y="5071680"/>
            <a:ext cx="64008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ICRISA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CAAD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GRAADECO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nstantia"/>
              </a:rPr>
              <a:t>Sikasso, Février 2015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Image 2" descr="Basic_logo"/>
          <p:cNvPicPr/>
          <p:nvPr/>
        </p:nvPicPr>
        <p:blipFill>
          <a:blip r:embed="rId2"/>
          <a:stretch/>
        </p:blipFill>
        <p:spPr>
          <a:xfrm>
            <a:off x="171360" y="1071720"/>
            <a:ext cx="2860920" cy="107136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1"/>
          <p:cNvGrpSpPr/>
          <p:nvPr/>
        </p:nvGrpSpPr>
        <p:grpSpPr>
          <a:xfrm>
            <a:off x="3857760" y="785880"/>
            <a:ext cx="1512720" cy="1241280"/>
            <a:chOff x="3857760" y="785880"/>
            <a:chExt cx="1512720" cy="1241280"/>
          </a:xfrm>
        </p:grpSpPr>
        <p:sp>
          <p:nvSpPr>
            <p:cNvPr id="199" name="Rectangle 12"/>
            <p:cNvSpPr/>
            <p:nvPr/>
          </p:nvSpPr>
          <p:spPr>
            <a:xfrm>
              <a:off x="3857760" y="785880"/>
              <a:ext cx="1512720" cy="12412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WordArt 13"/>
            <p:cNvSpPr txBox="1"/>
            <p:nvPr/>
          </p:nvSpPr>
          <p:spPr>
            <a:xfrm rot="5400000">
              <a:off x="3660120" y="1598040"/>
              <a:ext cx="626040" cy="2311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AA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1" name="WordArt 14"/>
            <p:cNvSpPr txBox="1"/>
            <p:nvPr/>
          </p:nvSpPr>
          <p:spPr>
            <a:xfrm rot="5400000">
              <a:off x="4941360" y="983160"/>
              <a:ext cx="626040" cy="2311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02" name="Éclair 14"/>
          <p:cNvSpPr/>
          <p:nvPr/>
        </p:nvSpPr>
        <p:spPr>
          <a:xfrm>
            <a:off x="3844800" y="785880"/>
            <a:ext cx="1513080" cy="1241280"/>
          </a:xfrm>
          <a:prstGeom prst="lightningBolt">
            <a:avLst/>
          </a:prstGeom>
          <a:solidFill>
            <a:srgbClr val="0d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t 14"/>
          <p:cNvGraphicFramePr/>
          <p:nvPr/>
        </p:nvGraphicFramePr>
        <p:xfrm>
          <a:off x="7215120" y="785880"/>
          <a:ext cx="151596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5120" y="785880"/>
                    <a:ext cx="151596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ZoneTexte 10"/>
          <p:cNvSpPr/>
          <p:nvPr/>
        </p:nvSpPr>
        <p:spPr>
          <a:xfrm>
            <a:off x="2714760" y="435780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AMPAGNE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Résulta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14200" y="2357280"/>
          <a:ext cx="4600800" cy="2733840"/>
        </p:xfrm>
        <a:graphic>
          <a:graphicData uri="http://schemas.openxmlformats.org/drawingml/2006/table">
            <a:tbl>
              <a:tblPr/>
              <a:tblGrid>
                <a:gridCol w="1000080"/>
                <a:gridCol w="1071720"/>
                <a:gridCol w="817560"/>
                <a:gridCol w="901800"/>
                <a:gridCol w="809640"/>
              </a:tblGrid>
              <a:tr h="630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rié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ids gousse(kg/100m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ids fane (kg/100m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mt (gousse en kg/h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mt fane en kg/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IAR 19B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GV 86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GV 86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GV 03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GV 86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4"/>
          <p:cNvSpPr/>
          <p:nvPr/>
        </p:nvSpPr>
        <p:spPr>
          <a:xfrm>
            <a:off x="214200" y="18572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Résultats de l’essai collectif de Sanakoroboug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508720" y="2330280"/>
          <a:ext cx="3184560" cy="2733840"/>
        </p:xfrm>
        <a:graphic>
          <a:graphicData uri="http://schemas.openxmlformats.org/drawingml/2006/table">
            <a:tbl>
              <a:tblPr/>
              <a:tblGrid>
                <a:gridCol w="863640"/>
                <a:gridCol w="1082520"/>
                <a:gridCol w="1238400"/>
              </a:tblGrid>
              <a:tr h="4208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é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ds gsous kg/100 m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mt  gous se Kg/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GV 86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GV 031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GV 031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GV 03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IAR 19B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cal che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6"/>
          <p:cNvSpPr/>
          <p:nvPr/>
        </p:nvSpPr>
        <p:spPr>
          <a:xfrm>
            <a:off x="5458320" y="1928880"/>
            <a:ext cx="34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ésultats 1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groupement de Fô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6760" y="928440"/>
            <a:ext cx="8472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4617b"/>
                </a:solidFill>
                <a:latin typeface="Calibri"/>
              </a:rPr>
              <a:t>Variétés préférées par les groupement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3" descr="D:\Mes images\CAAD\2012\ICRISAT\Field day_Nampossela\DSCN1908.JPG"/>
          <p:cNvPicPr/>
          <p:nvPr/>
        </p:nvPicPr>
        <p:blipFill>
          <a:blip r:embed="rId1"/>
          <a:stretch/>
        </p:blipFill>
        <p:spPr>
          <a:xfrm>
            <a:off x="5811840" y="1714680"/>
            <a:ext cx="3332160" cy="2500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D:\Mes images\CAAD\2012\ICRISAT\Field day_Nampossela\DSCN1951.JPG"/>
          <p:cNvPicPr/>
          <p:nvPr/>
        </p:nvPicPr>
        <p:blipFill>
          <a:blip r:embed="rId2"/>
          <a:stretch/>
        </p:blipFill>
        <p:spPr>
          <a:xfrm>
            <a:off x="5857920" y="4394160"/>
            <a:ext cx="3286080" cy="246384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7"/>
          <p:cNvSpPr/>
          <p:nvPr/>
        </p:nvSpPr>
        <p:spPr>
          <a:xfrm>
            <a:off x="571680" y="192888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CGV 86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CGV 86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CGV 91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CGV 86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CIAR 19 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8"/>
          <p:cNvSpPr/>
          <p:nvPr/>
        </p:nvSpPr>
        <p:spPr>
          <a:xfrm>
            <a:off x="642960" y="4429080"/>
            <a:ext cx="4286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ritères de préf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endement, forme des gousses, goût, précocité, résistance à la sécheres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4617b"/>
                </a:solidFill>
                <a:latin typeface="Calibri"/>
              </a:rPr>
              <a:t>Contrain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Faible niveau de financements pour couvrir la supervision des activité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Faible niveau d’équipements (production et transforma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ccès difficile aux terres de culture par certaines Femm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Sol pauv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11548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Perspectiv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85480" y="1571400"/>
            <a:ext cx="4329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Extension des activités dans d’autres zon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Augmentation de production de semences de pré-base et base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Distribution et vente des semences en petits paque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Amélioration des infrastructures de stockage (surtout de semence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Renforcement de capacités des Producteurs (trices), Semenciers et Entrepreneur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Renforcer les liens avec les Projets similaires existants (Africa RISING, Feed The Futur, TLIII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Image 3" descr="C:\Users\GRADECOM\Desktop\Photos mission AGRA\DSC01348.JPG"/>
          <p:cNvPicPr/>
          <p:nvPr/>
        </p:nvPicPr>
        <p:blipFill>
          <a:blip r:embed="rId1"/>
          <a:stretch/>
        </p:blipFill>
        <p:spPr>
          <a:xfrm>
            <a:off x="4929120" y="2714760"/>
            <a:ext cx="39448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Leçons tiré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5000"/>
            <a:ext cx="8229600" cy="24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Forte appréciation des Partenaires aux actions du projet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Motivation des différents groupements impliqué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limat d’entente entre les group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’utilisation des semences amélioré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584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4617b"/>
                </a:solidFill>
                <a:latin typeface="Calibri"/>
              </a:rPr>
              <a:t>Merci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Picture 2" descr="D:\Mes images\CAAD\2012\ICRISAT\Field day N'Goukan\DSCN2200.JPG"/>
          <p:cNvPicPr/>
          <p:nvPr/>
        </p:nvPicPr>
        <p:blipFill>
          <a:blip r:embed="rId1"/>
          <a:stretch/>
        </p:blipFill>
        <p:spPr>
          <a:xfrm>
            <a:off x="0" y="2571840"/>
            <a:ext cx="4714920" cy="4286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D:\Mes images\CAAD\2012\ICRISAT\Field day N'Goukan\DSCN2223.JPG"/>
          <p:cNvPicPr/>
          <p:nvPr/>
        </p:nvPicPr>
        <p:blipFill>
          <a:blip r:embed="rId2"/>
          <a:stretch/>
        </p:blipFill>
        <p:spPr>
          <a:xfrm>
            <a:off x="4714920" y="2571840"/>
            <a:ext cx="4429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Zones d’interven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85840" y="2286000"/>
          <a:ext cx="4500360" cy="3200400"/>
        </p:xfrm>
        <a:graphic>
          <a:graphicData uri="http://schemas.openxmlformats.org/drawingml/2006/table">
            <a:tbl>
              <a:tblPr/>
              <a:tblGrid>
                <a:gridCol w="1000080"/>
                <a:gridCol w="1857240"/>
                <a:gridCol w="1643040"/>
              </a:tblGrid>
              <a:tr h="580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Z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Vill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tructure d’appu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67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ikas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ugoumousso, Fôh, Zérélani, Nantoumana et Tinzanadoug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AADE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040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outi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aniko, Nampossela, N’Goukan, Banian, M’Peresso, Try I, Finkoloni et Sanankoroboug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09" name="Image 4" descr="C:\Users\Dekoro\AppData\Local\Microsoft\Windows\Temporary Internet Files\Content.Word\20140628_152939.jpg"/>
          <p:cNvPicPr/>
          <p:nvPr/>
        </p:nvPicPr>
        <p:blipFill>
          <a:blip r:embed="rId1"/>
          <a:srcRect l="4804" t="9936" r="-1465" b="27162"/>
          <a:stretch/>
        </p:blipFill>
        <p:spPr>
          <a:xfrm>
            <a:off x="4929120" y="2286000"/>
            <a:ext cx="40006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4200" y="114264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4617b"/>
                </a:solidFill>
                <a:latin typeface="Calibri"/>
              </a:rPr>
              <a:t>Collaboration ICRISAT-CAAD et GRAADECOM</a:t>
            </a:r>
            <a:r>
              <a:rPr b="1" lang="fr-FR" sz="36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00040" y="246852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Début de partenariat: 2012 pour CAAD et 2013 pour GRAADE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Objectif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Introduire des variétés améliorées performantes et adaptées d’arachid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Développer un système semencier durabl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méliorer les revenus des Femmes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920" y="1000080"/>
            <a:ext cx="87868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4617b"/>
                </a:solidFill>
                <a:latin typeface="Calibri"/>
              </a:rPr>
              <a:t>            </a:t>
            </a:r>
            <a:r>
              <a:rPr b="1" lang="fr-FR" sz="3600" spc="-1" strike="noStrike">
                <a:solidFill>
                  <a:srgbClr val="04617b"/>
                </a:solidFill>
                <a:latin typeface="Calibri"/>
              </a:rPr>
              <a:t>Activités menées 2014-2015</a:t>
            </a:r>
            <a:r>
              <a:rPr b="1" lang="fr-FR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2331720"/>
            <a:ext cx="461484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1- SELECTION VARIETA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ssais participatif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ssais individuel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Tests de démonstr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2- RENFORCEMENT DE CAPACI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D:\Mes images\CAAD\2014\ICRISAT\Visite_mission_Africa rising\DSC04969.JPG"/>
          <p:cNvPicPr/>
          <p:nvPr/>
        </p:nvPicPr>
        <p:blipFill>
          <a:blip r:embed="rId1"/>
          <a:stretch/>
        </p:blipFill>
        <p:spPr>
          <a:xfrm>
            <a:off x="4573440" y="2357280"/>
            <a:ext cx="4570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4617b"/>
                </a:solidFill>
                <a:latin typeface="Calibri"/>
              </a:rPr>
              <a:t>Nombre d’essais participatif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1935000"/>
          <a:ext cx="8229600" cy="2662560"/>
        </p:xfrm>
        <a:graphic>
          <a:graphicData uri="http://schemas.openxmlformats.org/drawingml/2006/table">
            <a:tbl>
              <a:tblPr/>
              <a:tblGrid>
                <a:gridCol w="1900080"/>
                <a:gridCol w="1392480"/>
                <a:gridCol w="1644480"/>
                <a:gridCol w="1646280"/>
                <a:gridCol w="1646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é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(Sikass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bre de varié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bre de 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ombre de Membres/Group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AD (Koutia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AADECOM (Sikass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4617b"/>
                </a:solidFill>
                <a:latin typeface="Calibri"/>
              </a:rPr>
              <a:t>Nombre d’essais individue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935000"/>
          <a:ext cx="8229600" cy="2022480"/>
        </p:xfrm>
        <a:graphic>
          <a:graphicData uri="http://schemas.openxmlformats.org/drawingml/2006/table">
            <a:tbl>
              <a:tblPr/>
              <a:tblGrid>
                <a:gridCol w="1900080"/>
                <a:gridCol w="1392480"/>
                <a:gridCol w="1644480"/>
                <a:gridCol w="1646280"/>
                <a:gridCol w="1646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é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(Sikass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bre de varié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bre de 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ombre de Membres/Group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AD (Koutia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AADECOM (Sikass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4617b"/>
                </a:solidFill>
                <a:latin typeface="Calibri"/>
              </a:rPr>
              <a:t>Nombre de démonstr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935000"/>
          <a:ext cx="8229600" cy="1381320"/>
        </p:xfrm>
        <a:graphic>
          <a:graphicData uri="http://schemas.openxmlformats.org/drawingml/2006/table">
            <a:tbl>
              <a:tblPr/>
              <a:tblGrid>
                <a:gridCol w="1900080"/>
                <a:gridCol w="1392480"/>
                <a:gridCol w="1644480"/>
                <a:gridCol w="1646280"/>
                <a:gridCol w="1646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é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(Sikass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bre de varié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bre de 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ombre de Membres/Group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AD (Koutia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Renforcement de capacités</a:t>
            </a: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2920" y="1806480"/>
          <a:ext cx="4643280" cy="5035680"/>
        </p:xfrm>
        <a:graphic>
          <a:graphicData uri="http://schemas.openxmlformats.org/drawingml/2006/table">
            <a:tbl>
              <a:tblPr/>
              <a:tblGrid>
                <a:gridCol w="998640"/>
                <a:gridCol w="1501560"/>
                <a:gridCol w="1071720"/>
                <a:gridCol w="1071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it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hè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6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outiala (CA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chniques culturales de l’arach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estion de l’aflatox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chniques de stock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6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ikasso (GRAADECO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chniques culturales de l’arach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estion de l’aflatox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chniques de stock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23" name="Picture 1" descr="DSCN4654"/>
          <p:cNvPicPr/>
          <p:nvPr/>
        </p:nvPicPr>
        <p:blipFill>
          <a:blip r:embed="rId1"/>
          <a:stretch/>
        </p:blipFill>
        <p:spPr>
          <a:xfrm>
            <a:off x="4857840" y="1928880"/>
            <a:ext cx="3786120" cy="29289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4929120" y="1857240"/>
            <a:ext cx="36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Calibri"/>
                <a:ea typeface="Arial"/>
              </a:rPr>
              <a:t>Formation sur la gestion de l’aflatox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4617b"/>
                </a:solidFill>
                <a:latin typeface="Calibri"/>
              </a:rPr>
              <a:t>DISSEMINATION D’INFORM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14200" y="2357280"/>
          <a:ext cx="4429080" cy="4214880"/>
        </p:xfrm>
        <a:graphic>
          <a:graphicData uri="http://schemas.openxmlformats.org/drawingml/2006/table">
            <a:tbl>
              <a:tblPr/>
              <a:tblGrid>
                <a:gridCol w="1500480"/>
                <a:gridCol w="1071360"/>
                <a:gridCol w="1143000"/>
                <a:gridCol w="714240"/>
              </a:tblGrid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ll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m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m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’Gouk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n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mpose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ani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y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’Peres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ZoneTexte 4"/>
          <p:cNvSpPr/>
          <p:nvPr/>
        </p:nvSpPr>
        <p:spPr>
          <a:xfrm>
            <a:off x="500040" y="128592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Journée porte ouver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istribution de broch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a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D:\Mes images\CAAD\2014\ICRISAT\phto jrné recol Try I\DSCN0805.JPG"/>
          <p:cNvPicPr/>
          <p:nvPr/>
        </p:nvPicPr>
        <p:blipFill>
          <a:blip r:embed="rId1"/>
          <a:stretch/>
        </p:blipFill>
        <p:spPr>
          <a:xfrm>
            <a:off x="4786200" y="2286000"/>
            <a:ext cx="43578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2:29:24Z</dcterms:created>
  <dc:creator>Ladji diawara</dc:creator>
  <dc:description/>
  <dc:language>en-US</dc:language>
  <cp:lastModifiedBy>Dekoro</cp:lastModifiedBy>
  <dcterms:modified xsi:type="dcterms:W3CDTF">2015-02-27T08:29:25Z</dcterms:modified>
  <cp:revision>60</cp:revision>
  <dc:subject/>
  <dc:title>Diapositive 1</dc:title>
</cp:coreProperties>
</file>